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0FC-8237-48E3-98BD-E5C05621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4E3-AF55-4A94-BAFF-1353E437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A8F-3804-4AB3-A921-48821705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F4C-BBC1-48F5-A2AB-1648DED5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658-7449-4DC6-9C8D-85A7A4F8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F67-0CB5-4703-9794-0FFADB36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D3A-DC55-4213-844B-639444F5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660-AD5A-43B4-8BA6-E8AC900B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BA5-C3E1-41F1-B702-B8F3F69B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51F-0461-4C76-8BCA-D0F2BB4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8EB-32E1-42C0-B7D8-E3A8FA4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A8E-3FEE-4BE7-A6BD-D11BABB3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BC7-CB67-4EBC-9C50-31F4ED668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04640"/>
            <a:ext cx="669780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Georgia"/>
              </a:rPr>
              <a:t>Путешествие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Georgia"/>
              <a:ea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529000">
            <a:off x="5866920" y="4292280"/>
            <a:ext cx="2376720" cy="633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861600">
            <a:off x="6803640" y="1915920"/>
            <a:ext cx="1285920" cy="194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0091600">
            <a:off x="1116000" y="4076280"/>
            <a:ext cx="165744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1762200">
            <a:off x="7884720" y="5876640"/>
            <a:ext cx="792360" cy="67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0824800">
            <a:off x="394920" y="2204640"/>
            <a:ext cx="2016000" cy="126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700360" y="1413000"/>
            <a:ext cx="36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cc"/>
                  </a:solidFill>
                  <a:miter/>
                </a:ln>
                <a:gradFill rotWithShape="0">
                  <a:gsLst>
                    <a:gs pos="0">
                      <a:srgbClr val="008080">
                        <a:alpha val="82352"/>
                      </a:srgbClr>
                    </a:gs>
                    <a:gs pos="100000">
                      <a:srgbClr val="003b3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 страну</a:t>
            </a:r>
            <a:endParaRPr b="0" lang="en-US" sz="1800" spc="1" strike="noStrike">
              <a:ln w="12600">
                <a:solidFill>
                  <a:srgbClr val="00ffcc"/>
                </a:solidFill>
                <a:miter/>
              </a:ln>
              <a:gradFill rotWithShape="0">
                <a:gsLst>
                  <a:gs pos="0">
                    <a:srgbClr val="008080">
                      <a:alpha val="82352"/>
                    </a:srgbClr>
                  </a:gs>
                  <a:gs pos="100000">
                    <a:srgbClr val="003b3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4724280"/>
            <a:ext cx="669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cb4ae"/>
                  </a:solidFill>
                  <a:miter/>
                </a:ln>
                <a:solidFill>
                  <a:srgbClr val="ff6699"/>
                </a:solidFill>
                <a:latin typeface="Times New Roman"/>
              </a:rPr>
              <a:t>КомпьютериЯ!</a:t>
            </a:r>
            <a:endParaRPr b="1" lang="en-US" sz="1800" spc="1" strike="noStrike">
              <a:ln w="9360">
                <a:solidFill>
                  <a:srgbClr val="fcb4ae"/>
                </a:solidFill>
                <a:miter/>
              </a:ln>
              <a:solidFill>
                <a:srgbClr val="ff6699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 rot="21197400">
            <a:off x="3634920" y="2276640"/>
            <a:ext cx="17352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86080" cy="2021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780000" y="1413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1844640"/>
            <a:ext cx="54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ышь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 предназначенное для быстрого перемещения по экрану и выбора нужн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763280" y="1844640"/>
            <a:ext cx="1584360" cy="504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4743360" cy="2971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900000" y="364500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инте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предназначенное для вывода информации на бума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050920" y="2852640"/>
            <a:ext cx="3024360" cy="936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356000" y="2997360"/>
            <a:ext cx="453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Аппаратно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беспечени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совокупность всех устройств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867120" cy="2945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8" name=""/>
          <p:cNvSpPr/>
          <p:nvPr/>
        </p:nvSpPr>
        <p:spPr>
          <a:xfrm flipH="1" flipV="1">
            <a:off x="4284360" y="2349000"/>
            <a:ext cx="1150920" cy="863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395520" cy="170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3024360" cy="172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3157" t="9551" r="0" b="0"/>
          <a:stretch/>
        </p:blipFill>
        <p:spPr>
          <a:xfrm>
            <a:off x="468360" y="2708280"/>
            <a:ext cx="3384360" cy="164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2026" t="3090" r="2257" b="2229"/>
          <a:stretch/>
        </p:blipFill>
        <p:spPr>
          <a:xfrm>
            <a:off x="5510160" y="260280"/>
            <a:ext cx="2806920" cy="2166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2879640" cy="151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732720" y="5229360"/>
            <a:ext cx="144144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659640" y="4410000"/>
            <a:ext cx="1558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2924280"/>
            <a:ext cx="8459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это универсальное программно-управляемое устройство для работы с информаци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13372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омпью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27880" y="189000"/>
            <a:ext cx="1476360" cy="2087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2187720" cy="2112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2303640" cy="6145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4743360" cy="2971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684360" y="270828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интер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3789360"/>
            <a:ext cx="74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устройство предназначенное для вывода информации на бума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19280" y="2997360"/>
            <a:ext cx="705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это</a:t>
            </a: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знания и сведения об окружающем нас ми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916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14400" cy="4105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067280" y="765000"/>
            <a:ext cx="28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2205000"/>
            <a:ext cx="500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используется для длительного хранения больших объёмов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1125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Жесткий д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07640" y="1700280"/>
            <a:ext cx="2087640" cy="144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06920" y="2492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Аппаратно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беспечени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867120" cy="2945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13" name=""/>
          <p:cNvSpPr/>
          <p:nvPr/>
        </p:nvSpPr>
        <p:spPr>
          <a:xfrm flipH="1" flipV="1">
            <a:off x="4284360" y="2349000"/>
            <a:ext cx="1150920" cy="863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292640"/>
            <a:ext cx="69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совокупность всех устройств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71440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16" name=""/>
          <p:cNvSpPr/>
          <p:nvPr/>
        </p:nvSpPr>
        <p:spPr>
          <a:xfrm flipH="1">
            <a:off x="2268360" y="1197000"/>
            <a:ext cx="194328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620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1844640"/>
            <a:ext cx="468144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устройство для обработки информации и управления работой компьюте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395520" cy="170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3024360" cy="172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659640" y="5013360"/>
            <a:ext cx="144144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3157" t="9551" r="0" b="0"/>
          <a:stretch/>
        </p:blipFill>
        <p:spPr>
          <a:xfrm>
            <a:off x="468360" y="2708280"/>
            <a:ext cx="3384360" cy="164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2026" t="3090" r="2257" b="2229"/>
          <a:stretch/>
        </p:blipFill>
        <p:spPr>
          <a:xfrm>
            <a:off x="5510160" y="260280"/>
            <a:ext cx="280692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28796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86080" cy="2021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3780000" y="1413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2565360"/>
            <a:ext cx="62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              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устройство  предназначенное для быстрого перемещения по экрану и выбора нужн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411280" y="1988640"/>
            <a:ext cx="93672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1989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271476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25" name=""/>
          <p:cNvSpPr/>
          <p:nvPr/>
        </p:nvSpPr>
        <p:spPr>
          <a:xfrm flipH="1">
            <a:off x="2050560" y="1557360"/>
            <a:ext cx="2305080" cy="2951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63700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информация в ней хранится только во время работы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83664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перативная 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5286600" cy="14097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29" name=""/>
          <p:cNvSpPr/>
          <p:nvPr/>
        </p:nvSpPr>
        <p:spPr>
          <a:xfrm flipV="1">
            <a:off x="2843280" y="1844280"/>
            <a:ext cx="100800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500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4221000"/>
            <a:ext cx="7632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устройство для ввода информации путем нажатия клави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629160" cy="3504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916360" y="2205000"/>
            <a:ext cx="2735280" cy="576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55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онито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924280"/>
            <a:ext cx="417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устройство визуального отображения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66240" y="388800"/>
            <a:ext cx="44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Фамилия   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125360"/>
          <a:ext cx="2239920" cy="5327640"/>
        </p:xfrm>
        <a:graphic>
          <a:graphicData uri="http://schemas.openxmlformats.org/drawingml/2006/table">
            <a:tbl>
              <a:tblPr/>
              <a:tblGrid>
                <a:gridCol w="223992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Инфор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омпью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лави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роцесс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Оперативн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Жесткий д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Мони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Мыш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рин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Аппаратное обеспе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635280" y="981000"/>
          <a:ext cx="5202360" cy="5543280"/>
        </p:xfrm>
        <a:graphic>
          <a:graphicData uri="http://schemas.openxmlformats.org/drawingml/2006/table">
            <a:tbl>
              <a:tblPr/>
              <a:tblGrid>
                <a:gridCol w="520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 для ввода информации путём нажатия клавиш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, предназначенное для обработки и управления работой компью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нания и сведения об окружающем нас мире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ниверсальное программно управляемое  устройство для работы с информаци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 визуального отображения информ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,  предназначенное для быстрого перемещения по экрану и выбора нужн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Информация в ней хранится только во время работы компью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Используется для длительного хранения больших объёмов информ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овокупность всех устройств компью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, предназначенное для вывода информации на бумаг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08000" y="189000"/>
          <a:ext cx="8928000" cy="6575400"/>
        </p:xfrm>
        <a:graphic>
          <a:graphicData uri="http://schemas.openxmlformats.org/drawingml/2006/table">
            <a:tbl>
              <a:tblPr/>
              <a:tblGrid>
                <a:gridCol w="2720880"/>
                <a:gridCol w="62071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66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Знания и сведения об окружающем нас мир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18720">
                      <a:solidFill>
                        <a:srgbClr val="66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ниверсальное программно управляемое  устройство для работы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Клави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 для ввода информации путём нажатия клави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Процесс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, предназначенное для обработки и управления работой компьют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Оперативная памя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Информация в ней хранится только во время работы компьют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Жесткий ди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Используется для длительного хранения больших объёмов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Мони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 визуального отображения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Мы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,  предназначенное для быстрого перемещения по экрану и выбора нуж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Прин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, предназначенное для вывода информации на бума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Аппаратное обесп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Совокупность всех устройств компьют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557360"/>
            <a:ext cx="763272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2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.Т. стр. 54 №1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Составить ребус на слово обозначающее название устройства компьютера или информацион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de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de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4508640"/>
            <a:ext cx="5832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0066"/>
                </a:solidFill>
                <a:latin typeface="Century"/>
              </a:rPr>
              <a:t>Компьюте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85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5084640"/>
            <a:ext cx="6408720" cy="649440"/>
          </a:xfrm>
          <a:prstGeom prst="rect">
            <a:avLst/>
          </a:prstGeom>
          <a:solidFill>
            <a:srgbClr val="fcb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924280"/>
            <a:ext cx="84596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омпьюте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это универсальное программно-управляемое устройство для работы с информаци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1988640"/>
            <a:ext cx="2592720" cy="1079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2303640" cy="6145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2187720" cy="2112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427880" y="189000"/>
            <a:ext cx="1476360" cy="2087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5286600" cy="14097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5" name=""/>
          <p:cNvSpPr/>
          <p:nvPr/>
        </p:nvSpPr>
        <p:spPr>
          <a:xfrm flipV="1">
            <a:off x="1547640" y="1844280"/>
            <a:ext cx="230364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50028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лавиатура</a:t>
            </a: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 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устройство для ввода информации путем нажатия клави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71440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8" name=""/>
          <p:cNvSpPr/>
          <p:nvPr/>
        </p:nvSpPr>
        <p:spPr>
          <a:xfrm flipH="1">
            <a:off x="2268360" y="1197000"/>
            <a:ext cx="194328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620640"/>
            <a:ext cx="439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оцессо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для обработки информации и управления работой компьютера.</a:t>
            </a: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271476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 flipH="1">
            <a:off x="2050560" y="1557360"/>
            <a:ext cx="2305080" cy="2951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836640"/>
            <a:ext cx="446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перативная память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информация в ней хранится только во время работы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14400" cy="4105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4" name=""/>
          <p:cNvSpPr/>
          <p:nvPr/>
        </p:nvSpPr>
        <p:spPr>
          <a:xfrm flipH="1">
            <a:off x="1907640" y="1700280"/>
            <a:ext cx="2087640" cy="144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1052640"/>
            <a:ext cx="5003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Жесткий диск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используется для длительного хранения больших объёмов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629160" cy="3504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916360" y="2205000"/>
            <a:ext cx="2735280" cy="576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557360"/>
            <a:ext cx="561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онито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визуального отображения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5:26:24Z</dcterms:created>
  <dc:creator>Хозяин</dc:creator>
  <dc:description/>
  <dc:language>en-US</dc:language>
  <cp:lastModifiedBy>Elena</cp:lastModifiedBy>
  <dcterms:modified xsi:type="dcterms:W3CDTF">2010-02-23T13:34:17Z</dcterms:modified>
  <cp:revision>14</cp:revision>
  <dc:subject/>
  <dc:title>Слайд 1</dc:title>
</cp:coreProperties>
</file>